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D902-7A0F-48E6-899F-41F3E000EE9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D8BC-9166-4332-BDCA-E5B6AD7FE7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A7D8-4B11-45C1-8EAA-65BB556418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F1F7-0A22-4F03-93C9-D0F4D9855E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910C-EFAC-4DB1-8E92-3FCB190214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0D9D-AB21-4E22-AA94-0F1C67DB71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7CA4-11C7-4448-9384-69394DC4DF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D11A-29C6-42DA-9CBE-2793BC04C5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10F4-9EBD-465C-9224-616FD83F52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FD86-8949-4D0C-9BAE-F550A4972AC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8B987-B05A-4F2A-8AEB-68F0EEF073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4790-8CE7-4785-BBA4-AC683ECB304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73534-11F7-453D-BE32-8B1DBE266A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7DC8-D0F0-4D08-8630-786F72EC146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87013-1D0A-49F9-8F9D-6E70CB6C36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584D-E29C-440F-B3F2-C79C74CD2F0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34834-418C-4505-9B8F-F359A42333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005E-C9B9-46A5-9B9A-0B322A343B2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9EDA7-1424-4E81-A579-817F5E7D30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562B-AE0C-4EA8-8D76-738C7EA3CA9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0C5DD-9920-4596-9D53-CC665D29B8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32B0-B124-4A03-9066-6678CBFD948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4588-A536-4CB4-853C-641EF9E9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CE56-DC2E-40C5-8830-725EC246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F7A3-4CF1-422C-BBD6-BEA5B4DE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3263-FFFE-4C3E-BAD2-1D9FBD56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7EBA-09B4-4FA4-AA2D-839CB8D1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78B7-8388-4FE5-993A-75D626CD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F28D-7228-4513-BD94-F6B32641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536E-3D11-4551-ACA5-92805CA2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51B8-9D1E-468D-94D5-B263A466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C740-F3C3-47C5-98D8-F0A68DE0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CE1A-5A34-43AE-8F52-C73E43F9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D130-355A-4547-9BF0-F404AF22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074A-763E-4469-9611-7C0E55FD52EE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Runoff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iago Garcia de Senna Carnei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ibeiro de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â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unster,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  <a:ea typeface="DejaVu Sans"/>
              </a:rPr>
              <a:t>A very simple runoff model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28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Grid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eighbourho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discrete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transition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nitial s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cret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Group 1"/>
          <p:cNvGrpSpPr/>
          <p:nvPr/>
        </p:nvGrpSpPr>
        <p:grpSpPr>
          <a:xfrm>
            <a:off x="5940360" y="1844640"/>
            <a:ext cx="2592360" cy="2676600"/>
            <a:chOff x="5940360" y="1844640"/>
            <a:chExt cx="2592360" cy="2676600"/>
          </a:xfrm>
        </p:grpSpPr>
        <p:sp>
          <p:nvSpPr>
            <p:cNvPr id="236" name="Rectangle 4"/>
            <p:cNvSpPr/>
            <p:nvPr/>
          </p:nvSpPr>
          <p:spPr>
            <a:xfrm>
              <a:off x="594036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5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6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7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8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9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0"/>
            <p:cNvSpPr/>
            <p:nvPr/>
          </p:nvSpPr>
          <p:spPr>
            <a:xfrm>
              <a:off x="637200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1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2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3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4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5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6"/>
            <p:cNvSpPr/>
            <p:nvPr/>
          </p:nvSpPr>
          <p:spPr>
            <a:xfrm>
              <a:off x="6804000" y="18446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7"/>
            <p:cNvSpPr/>
            <p:nvPr/>
          </p:nvSpPr>
          <p:spPr>
            <a:xfrm>
              <a:off x="6804000" y="22906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8"/>
            <p:cNvSpPr/>
            <p:nvPr/>
          </p:nvSpPr>
          <p:spPr>
            <a:xfrm>
              <a:off x="6804000" y="273672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6804000" y="32050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0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723744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723744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4"/>
            <p:cNvSpPr/>
            <p:nvPr/>
          </p:nvSpPr>
          <p:spPr>
            <a:xfrm>
              <a:off x="723744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5"/>
            <p:cNvSpPr/>
            <p:nvPr/>
          </p:nvSpPr>
          <p:spPr>
            <a:xfrm>
              <a:off x="7237440" y="319896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26"/>
            <p:cNvSpPr/>
            <p:nvPr/>
          </p:nvSpPr>
          <p:spPr>
            <a:xfrm>
              <a:off x="723744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7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28"/>
            <p:cNvSpPr/>
            <p:nvPr/>
          </p:nvSpPr>
          <p:spPr>
            <a:xfrm>
              <a:off x="7669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29"/>
            <p:cNvSpPr/>
            <p:nvPr/>
          </p:nvSpPr>
          <p:spPr>
            <a:xfrm>
              <a:off x="7669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0"/>
            <p:cNvSpPr/>
            <p:nvPr/>
          </p:nvSpPr>
          <p:spPr>
            <a:xfrm>
              <a:off x="7669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31"/>
            <p:cNvSpPr/>
            <p:nvPr/>
          </p:nvSpPr>
          <p:spPr>
            <a:xfrm>
              <a:off x="7669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32"/>
            <p:cNvSpPr/>
            <p:nvPr/>
          </p:nvSpPr>
          <p:spPr>
            <a:xfrm>
              <a:off x="7669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33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4"/>
            <p:cNvSpPr/>
            <p:nvPr/>
          </p:nvSpPr>
          <p:spPr>
            <a:xfrm>
              <a:off x="8101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5"/>
            <p:cNvSpPr/>
            <p:nvPr/>
          </p:nvSpPr>
          <p:spPr>
            <a:xfrm>
              <a:off x="8101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6"/>
            <p:cNvSpPr/>
            <p:nvPr/>
          </p:nvSpPr>
          <p:spPr>
            <a:xfrm>
              <a:off x="8101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37"/>
            <p:cNvSpPr/>
            <p:nvPr/>
          </p:nvSpPr>
          <p:spPr>
            <a:xfrm>
              <a:off x="8101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8"/>
            <p:cNvSpPr/>
            <p:nvPr/>
          </p:nvSpPr>
          <p:spPr>
            <a:xfrm>
              <a:off x="8101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9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40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1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42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3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4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5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46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47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48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49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50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51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52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3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54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  <a:ea typeface="DejaVu Sans"/>
              </a:rPr>
              <a:t>Grid of Cells </a:t>
            </a:r>
            <a:r>
              <a:rPr b="1" lang="en-US" sz="2800" spc="-1" strike="noStrike">
                <a:solidFill>
                  <a:srgbClr val="003366"/>
                </a:solidFill>
                <a:latin typeface="ZapfHumnst BT"/>
                <a:ea typeface="DejaVu Sans"/>
              </a:rPr>
              <a:t>–</a:t>
            </a:r>
            <a:r>
              <a:rPr b="1" lang="pt-BR" sz="2800" spc="-1" strike="noStrike">
                <a:solidFill>
                  <a:srgbClr val="003366"/>
                </a:solidFill>
                <a:latin typeface="ZapfHumnst BT"/>
                <a:ea typeface="DejaVu Sans"/>
              </a:rPr>
              <a:t> Height 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88" name="Picture 2" descr="Screen Shot 2013-05-22 at 15.26.25.png"/>
          <p:cNvPicPr/>
          <p:nvPr/>
        </p:nvPicPr>
        <p:blipFill>
          <a:blip r:embed="rId1"/>
          <a:stretch/>
        </p:blipFill>
        <p:spPr>
          <a:xfrm>
            <a:off x="1835280" y="1197000"/>
            <a:ext cx="568620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815328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Initial state </a:t>
            </a: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–</a:t>
            </a: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 Rain in the heighest cel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90" name="Picture 4" descr="Screen Shot 2013-05-22 at 15.26.25.png"/>
          <p:cNvPicPr/>
          <p:nvPr/>
        </p:nvPicPr>
        <p:blipFill>
          <a:blip r:embed="rId1"/>
          <a:stretch/>
        </p:blipFill>
        <p:spPr>
          <a:xfrm>
            <a:off x="393840" y="1568520"/>
            <a:ext cx="4394160" cy="4362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Screen Shot 2013-05-22 at 15.42.39.png"/>
          <p:cNvPicPr/>
          <p:nvPr/>
        </p:nvPicPr>
        <p:blipFill>
          <a:blip r:embed="rId2"/>
          <a:stretch/>
        </p:blipFill>
        <p:spPr>
          <a:xfrm>
            <a:off x="4788000" y="1627200"/>
            <a:ext cx="4248000" cy="423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2" name="Rectangle 3"/>
          <p:cNvSpPr/>
          <p:nvPr/>
        </p:nvSpPr>
        <p:spPr>
          <a:xfrm>
            <a:off x="468360" y="6049800"/>
            <a:ext cx="85345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1000mm of rain in the cells above 200m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  <a:ea typeface="DejaVu Sans"/>
              </a:rPr>
              <a:t>Neighborhood </a:t>
            </a:r>
            <a:r>
              <a:rPr b="1" lang="en-US" sz="2800" spc="-1" strike="noStrike">
                <a:solidFill>
                  <a:srgbClr val="003366"/>
                </a:solidFill>
                <a:latin typeface="ZapfHumnst BT"/>
                <a:ea typeface="DejaVu Sans"/>
              </a:rPr>
              <a:t>–</a:t>
            </a:r>
            <a:r>
              <a:rPr b="1" lang="pt-BR" sz="2800" spc="-1" strike="noStrike">
                <a:solidFill>
                  <a:srgbClr val="003366"/>
                </a:solidFill>
                <a:latin typeface="ZapfHumnst BT"/>
                <a:ea typeface="DejaVu Sans"/>
              </a:rPr>
              <a:t> based on height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4" name="Rectangle 24"/>
          <p:cNvSpPr/>
          <p:nvPr/>
        </p:nvSpPr>
        <p:spPr>
          <a:xfrm>
            <a:off x="2892600" y="186840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0"/>
          <p:cNvSpPr/>
          <p:nvPr/>
        </p:nvSpPr>
        <p:spPr>
          <a:xfrm>
            <a:off x="3971880" y="1868400"/>
            <a:ext cx="107964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1"/>
          <p:cNvSpPr/>
          <p:nvPr/>
        </p:nvSpPr>
        <p:spPr>
          <a:xfrm>
            <a:off x="3971880" y="2955960"/>
            <a:ext cx="107964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2"/>
          <p:cNvSpPr/>
          <p:nvPr/>
        </p:nvSpPr>
        <p:spPr>
          <a:xfrm>
            <a:off x="3971880" y="4049640"/>
            <a:ext cx="107964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6"/>
          <p:cNvSpPr/>
          <p:nvPr/>
        </p:nvSpPr>
        <p:spPr>
          <a:xfrm>
            <a:off x="5051520" y="186840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7"/>
          <p:cNvSpPr/>
          <p:nvPr/>
        </p:nvSpPr>
        <p:spPr>
          <a:xfrm>
            <a:off x="5051520" y="2955960"/>
            <a:ext cx="107928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8"/>
          <p:cNvSpPr/>
          <p:nvPr/>
        </p:nvSpPr>
        <p:spPr>
          <a:xfrm>
            <a:off x="5051520" y="404964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1"/>
          <p:cNvSpPr/>
          <p:nvPr/>
        </p:nvSpPr>
        <p:spPr>
          <a:xfrm>
            <a:off x="2897280" y="2955960"/>
            <a:ext cx="107928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2"/>
          <p:cNvSpPr/>
          <p:nvPr/>
        </p:nvSpPr>
        <p:spPr>
          <a:xfrm>
            <a:off x="2897280" y="404964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  <a:ea typeface="DejaVu Sans"/>
              </a:rPr>
              <a:t>Neighborhood </a:t>
            </a:r>
            <a:r>
              <a:rPr b="1" lang="en-US" sz="2800" spc="-1" strike="noStrike">
                <a:solidFill>
                  <a:srgbClr val="003366"/>
                </a:solidFill>
                <a:latin typeface="ZapfHumnst BT"/>
                <a:ea typeface="DejaVu Sans"/>
              </a:rPr>
              <a:t>–</a:t>
            </a:r>
            <a:r>
              <a:rPr b="1" lang="pt-BR" sz="2800" spc="-1" strike="noStrike">
                <a:solidFill>
                  <a:srgbClr val="003366"/>
                </a:solidFill>
                <a:latin typeface="ZapfHumnst BT"/>
                <a:ea typeface="DejaVu Sans"/>
              </a:rPr>
              <a:t> based on height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4" name="Rectangle 24"/>
          <p:cNvSpPr/>
          <p:nvPr/>
        </p:nvSpPr>
        <p:spPr>
          <a:xfrm>
            <a:off x="2892600" y="186840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0"/>
          <p:cNvSpPr/>
          <p:nvPr/>
        </p:nvSpPr>
        <p:spPr>
          <a:xfrm>
            <a:off x="3971880" y="1868400"/>
            <a:ext cx="107964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1"/>
          <p:cNvSpPr/>
          <p:nvPr/>
        </p:nvSpPr>
        <p:spPr>
          <a:xfrm>
            <a:off x="3971880" y="2955960"/>
            <a:ext cx="107964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2"/>
          <p:cNvSpPr/>
          <p:nvPr/>
        </p:nvSpPr>
        <p:spPr>
          <a:xfrm>
            <a:off x="3971880" y="4049640"/>
            <a:ext cx="107964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6"/>
          <p:cNvSpPr/>
          <p:nvPr/>
        </p:nvSpPr>
        <p:spPr>
          <a:xfrm>
            <a:off x="5051520" y="186840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7"/>
          <p:cNvSpPr/>
          <p:nvPr/>
        </p:nvSpPr>
        <p:spPr>
          <a:xfrm>
            <a:off x="5051520" y="2955960"/>
            <a:ext cx="107928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8"/>
          <p:cNvSpPr/>
          <p:nvPr/>
        </p:nvSpPr>
        <p:spPr>
          <a:xfrm>
            <a:off x="5051520" y="404964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1"/>
          <p:cNvSpPr/>
          <p:nvPr/>
        </p:nvSpPr>
        <p:spPr>
          <a:xfrm>
            <a:off x="2897280" y="2955960"/>
            <a:ext cx="107928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2"/>
          <p:cNvSpPr/>
          <p:nvPr/>
        </p:nvSpPr>
        <p:spPr>
          <a:xfrm>
            <a:off x="2897280" y="404964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Straight Arrow Connector 2"/>
          <p:cNvCxnSpPr/>
          <p:nvPr/>
        </p:nvCxnSpPr>
        <p:spPr>
          <a:xfrm flipH="1">
            <a:off x="3450960" y="3504960"/>
            <a:ext cx="10800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314" name="Straight Arrow Connector 16"/>
          <p:cNvCxnSpPr/>
          <p:nvPr/>
        </p:nvCxnSpPr>
        <p:spPr>
          <a:xfrm>
            <a:off x="4511160" y="3500280"/>
            <a:ext cx="1080" cy="1099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315" name="Straight Arrow Connector 19"/>
          <p:cNvCxnSpPr/>
          <p:nvPr/>
        </p:nvCxnSpPr>
        <p:spPr>
          <a:xfrm flipH="1">
            <a:off x="3492000" y="3500280"/>
            <a:ext cx="1021680" cy="1153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316" name="Rectangle 3"/>
          <p:cNvSpPr/>
          <p:nvPr/>
        </p:nvSpPr>
        <p:spPr>
          <a:xfrm>
            <a:off x="609480" y="5834160"/>
            <a:ext cx="853452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ote that the process takes place in parallel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  <a:ea typeface="DejaVu Sans"/>
              </a:rPr>
              <a:t>States and transitions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1619280" y="2427120"/>
            <a:ext cx="2160720" cy="100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57"/>
          <p:cNvSpPr/>
          <p:nvPr/>
        </p:nvSpPr>
        <p:spPr>
          <a:xfrm>
            <a:off x="5292720" y="2427120"/>
            <a:ext cx="2158920" cy="100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Curved Connector 4"/>
          <p:cNvCxnSpPr>
            <a:stCxn id="318" idx="0"/>
            <a:endCxn id="319" idx="0"/>
          </p:cNvCxnSpPr>
          <p:nvPr/>
        </p:nvCxnSpPr>
        <p:spPr>
          <a:xfrm flipH="1" flipV="1" rot="5400000">
            <a:off x="4535280" y="590760"/>
            <a:ext cx="13320" cy="3672360"/>
          </a:xfrm>
          <a:prstGeom prst="curvedConnector5">
            <a:avLst>
              <a:gd name="adj1" fmla="val 4625000"/>
              <a:gd name="adj2" fmla="val 50000"/>
              <a:gd name="adj3" fmla="val 4625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1" name="Curved Connector 62"/>
          <p:cNvCxnSpPr>
            <a:stCxn id="319" idx="4"/>
            <a:endCxn id="318" idx="4"/>
          </p:cNvCxnSpPr>
          <p:nvPr/>
        </p:nvCxnSpPr>
        <p:spPr>
          <a:xfrm rot="5400000">
            <a:off x="4535640" y="1599120"/>
            <a:ext cx="13320" cy="3672360"/>
          </a:xfrm>
          <a:prstGeom prst="curvedConnector5">
            <a:avLst>
              <a:gd name="adj1" fmla="val 3538888"/>
              <a:gd name="adj2" fmla="val 50000"/>
              <a:gd name="adj3" fmla="val 3538888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2" name="Rectangle 3"/>
          <p:cNvSpPr/>
          <p:nvPr/>
        </p:nvSpPr>
        <p:spPr>
          <a:xfrm>
            <a:off x="609480" y="4754520"/>
            <a:ext cx="82836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What is the behavior of each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re both states necessa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  <a:ea typeface="DejaVu Sans"/>
              </a:rPr>
              <a:t>Relaxing cellular automata definitions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324" name="Rectangle 3" descr=""/>
          <p:cNvPicPr/>
          <p:nvPr/>
        </p:nvPicPr>
        <p:blipFill>
          <a:blip r:embed="rId1"/>
          <a:stretch/>
        </p:blipFill>
        <p:spPr>
          <a:xfrm>
            <a:off x="500040" y="1957320"/>
            <a:ext cx="8399520" cy="4791240"/>
          </a:xfrm>
          <a:prstGeom prst="rect">
            <a:avLst/>
          </a:prstGeom>
          <a:ln w="0">
            <a:noFill/>
          </a:ln>
        </p:spPr>
      </p:pic>
      <p:grpSp>
        <p:nvGrpSpPr>
          <p:cNvPr id="325" name="Group 1"/>
          <p:cNvGrpSpPr/>
          <p:nvPr/>
        </p:nvGrpSpPr>
        <p:grpSpPr>
          <a:xfrm>
            <a:off x="5940360" y="1844640"/>
            <a:ext cx="2592360" cy="2676600"/>
            <a:chOff x="5940360" y="1844640"/>
            <a:chExt cx="2592360" cy="2676600"/>
          </a:xfrm>
        </p:grpSpPr>
        <p:sp>
          <p:nvSpPr>
            <p:cNvPr id="326" name="Rectangle 4"/>
            <p:cNvSpPr/>
            <p:nvPr/>
          </p:nvSpPr>
          <p:spPr>
            <a:xfrm>
              <a:off x="594036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5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6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7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8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9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0"/>
            <p:cNvSpPr/>
            <p:nvPr/>
          </p:nvSpPr>
          <p:spPr>
            <a:xfrm>
              <a:off x="637200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1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2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3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4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5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6"/>
            <p:cNvSpPr/>
            <p:nvPr/>
          </p:nvSpPr>
          <p:spPr>
            <a:xfrm>
              <a:off x="6804000" y="18446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7"/>
            <p:cNvSpPr/>
            <p:nvPr/>
          </p:nvSpPr>
          <p:spPr>
            <a:xfrm>
              <a:off x="6804000" y="22906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8"/>
            <p:cNvSpPr/>
            <p:nvPr/>
          </p:nvSpPr>
          <p:spPr>
            <a:xfrm>
              <a:off x="6804000" y="273672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9"/>
            <p:cNvSpPr/>
            <p:nvPr/>
          </p:nvSpPr>
          <p:spPr>
            <a:xfrm>
              <a:off x="6804000" y="32050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0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1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2"/>
            <p:cNvSpPr/>
            <p:nvPr/>
          </p:nvSpPr>
          <p:spPr>
            <a:xfrm>
              <a:off x="723744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3"/>
            <p:cNvSpPr/>
            <p:nvPr/>
          </p:nvSpPr>
          <p:spPr>
            <a:xfrm>
              <a:off x="723744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4"/>
            <p:cNvSpPr/>
            <p:nvPr/>
          </p:nvSpPr>
          <p:spPr>
            <a:xfrm>
              <a:off x="723744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25"/>
            <p:cNvSpPr/>
            <p:nvPr/>
          </p:nvSpPr>
          <p:spPr>
            <a:xfrm>
              <a:off x="7237440" y="319896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26"/>
            <p:cNvSpPr/>
            <p:nvPr/>
          </p:nvSpPr>
          <p:spPr>
            <a:xfrm>
              <a:off x="723744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27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28"/>
            <p:cNvSpPr/>
            <p:nvPr/>
          </p:nvSpPr>
          <p:spPr>
            <a:xfrm>
              <a:off x="7669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9"/>
            <p:cNvSpPr/>
            <p:nvPr/>
          </p:nvSpPr>
          <p:spPr>
            <a:xfrm>
              <a:off x="7669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0"/>
            <p:cNvSpPr/>
            <p:nvPr/>
          </p:nvSpPr>
          <p:spPr>
            <a:xfrm>
              <a:off x="7669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31"/>
            <p:cNvSpPr/>
            <p:nvPr/>
          </p:nvSpPr>
          <p:spPr>
            <a:xfrm>
              <a:off x="7669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32"/>
            <p:cNvSpPr/>
            <p:nvPr/>
          </p:nvSpPr>
          <p:spPr>
            <a:xfrm>
              <a:off x="7669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33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34"/>
            <p:cNvSpPr/>
            <p:nvPr/>
          </p:nvSpPr>
          <p:spPr>
            <a:xfrm>
              <a:off x="8101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35"/>
            <p:cNvSpPr/>
            <p:nvPr/>
          </p:nvSpPr>
          <p:spPr>
            <a:xfrm>
              <a:off x="8101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36"/>
            <p:cNvSpPr/>
            <p:nvPr/>
          </p:nvSpPr>
          <p:spPr>
            <a:xfrm>
              <a:off x="8101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37"/>
            <p:cNvSpPr/>
            <p:nvPr/>
          </p:nvSpPr>
          <p:spPr>
            <a:xfrm>
              <a:off x="8101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38"/>
            <p:cNvSpPr/>
            <p:nvPr/>
          </p:nvSpPr>
          <p:spPr>
            <a:xfrm>
              <a:off x="8101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39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40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41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42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43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44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45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46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47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48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49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50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51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52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53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54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  <a:ea typeface="DejaVu Sans"/>
              </a:rPr>
              <a:t>Questions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28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How to verify whether the model is correctly implemen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What are the limitations of this mode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34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  <a:ea typeface="DejaVu Sans"/>
              </a:rPr>
              <a:t>How can geospatial data feed CA models?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28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Grid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eighbourho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discrete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transition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nitial s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cret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Group 1"/>
          <p:cNvGrpSpPr/>
          <p:nvPr/>
        </p:nvGrpSpPr>
        <p:grpSpPr>
          <a:xfrm>
            <a:off x="5940360" y="1844640"/>
            <a:ext cx="2592360" cy="2676600"/>
            <a:chOff x="5940360" y="1844640"/>
            <a:chExt cx="2592360" cy="2676600"/>
          </a:xfrm>
        </p:grpSpPr>
        <p:sp>
          <p:nvSpPr>
            <p:cNvPr id="111" name="Rectangle 4"/>
            <p:cNvSpPr/>
            <p:nvPr/>
          </p:nvSpPr>
          <p:spPr>
            <a:xfrm>
              <a:off x="594036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5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6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7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8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9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0"/>
            <p:cNvSpPr/>
            <p:nvPr/>
          </p:nvSpPr>
          <p:spPr>
            <a:xfrm>
              <a:off x="637200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1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2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3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4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6"/>
            <p:cNvSpPr/>
            <p:nvPr/>
          </p:nvSpPr>
          <p:spPr>
            <a:xfrm>
              <a:off x="6804000" y="18446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7"/>
            <p:cNvSpPr/>
            <p:nvPr/>
          </p:nvSpPr>
          <p:spPr>
            <a:xfrm>
              <a:off x="6804000" y="22906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8"/>
            <p:cNvSpPr/>
            <p:nvPr/>
          </p:nvSpPr>
          <p:spPr>
            <a:xfrm>
              <a:off x="6804000" y="273672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9"/>
            <p:cNvSpPr/>
            <p:nvPr/>
          </p:nvSpPr>
          <p:spPr>
            <a:xfrm>
              <a:off x="6804000" y="32050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0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1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2"/>
            <p:cNvSpPr/>
            <p:nvPr/>
          </p:nvSpPr>
          <p:spPr>
            <a:xfrm>
              <a:off x="723744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3"/>
            <p:cNvSpPr/>
            <p:nvPr/>
          </p:nvSpPr>
          <p:spPr>
            <a:xfrm>
              <a:off x="723744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723744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5"/>
            <p:cNvSpPr/>
            <p:nvPr/>
          </p:nvSpPr>
          <p:spPr>
            <a:xfrm>
              <a:off x="7237440" y="319896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6"/>
            <p:cNvSpPr/>
            <p:nvPr/>
          </p:nvSpPr>
          <p:spPr>
            <a:xfrm>
              <a:off x="723744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7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8"/>
            <p:cNvSpPr/>
            <p:nvPr/>
          </p:nvSpPr>
          <p:spPr>
            <a:xfrm>
              <a:off x="7669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9"/>
            <p:cNvSpPr/>
            <p:nvPr/>
          </p:nvSpPr>
          <p:spPr>
            <a:xfrm>
              <a:off x="7669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0"/>
            <p:cNvSpPr/>
            <p:nvPr/>
          </p:nvSpPr>
          <p:spPr>
            <a:xfrm>
              <a:off x="7669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31"/>
            <p:cNvSpPr/>
            <p:nvPr/>
          </p:nvSpPr>
          <p:spPr>
            <a:xfrm>
              <a:off x="7669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2"/>
            <p:cNvSpPr/>
            <p:nvPr/>
          </p:nvSpPr>
          <p:spPr>
            <a:xfrm>
              <a:off x="7669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3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4"/>
            <p:cNvSpPr/>
            <p:nvPr/>
          </p:nvSpPr>
          <p:spPr>
            <a:xfrm>
              <a:off x="8101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5"/>
            <p:cNvSpPr/>
            <p:nvPr/>
          </p:nvSpPr>
          <p:spPr>
            <a:xfrm>
              <a:off x="8101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6"/>
            <p:cNvSpPr/>
            <p:nvPr/>
          </p:nvSpPr>
          <p:spPr>
            <a:xfrm>
              <a:off x="8101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7"/>
            <p:cNvSpPr/>
            <p:nvPr/>
          </p:nvSpPr>
          <p:spPr>
            <a:xfrm>
              <a:off x="8101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8"/>
            <p:cNvSpPr/>
            <p:nvPr/>
          </p:nvSpPr>
          <p:spPr>
            <a:xfrm>
              <a:off x="8101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9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0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1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2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3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4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5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6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7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8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9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50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51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2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3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54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60640" y="0"/>
            <a:ext cx="682596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1584000" y="5302080"/>
            <a:ext cx="13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zil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4"/>
          <p:cNvSpPr/>
          <p:nvPr/>
        </p:nvSpPr>
        <p:spPr>
          <a:xfrm>
            <a:off x="6084720" y="2708280"/>
            <a:ext cx="266760" cy="1820880"/>
          </a:xfrm>
          <a:custGeom>
            <a:avLst/>
            <a:gdLst>
              <a:gd name="textAreaLeft" fmla="*/ 0 w 266760"/>
              <a:gd name="textAreaRight" fmla="*/ 267120 w 266760"/>
              <a:gd name="textAreaTop" fmla="*/ 0 h 1820880"/>
              <a:gd name="textAreaBottom" fmla="*/ 1821240 h 1820880"/>
            </a:gdLst>
            <a:ahLst/>
            <a:rect l="textAreaLeft" t="textAreaTop" r="textAreaRight" b="textAreaBottom"/>
            <a:pathLst>
              <a:path w="130" h="1018">
                <a:moveTo>
                  <a:pt x="111" y="1005"/>
                </a:moveTo>
                <a:cubicBezTo>
                  <a:pt x="63" y="960"/>
                  <a:pt x="130" y="1018"/>
                  <a:pt x="73" y="983"/>
                </a:cubicBezTo>
                <a:cubicBezTo>
                  <a:pt x="24" y="952"/>
                  <a:pt x="96" y="979"/>
                  <a:pt x="35" y="960"/>
                </a:cubicBezTo>
                <a:cubicBezTo>
                  <a:pt x="0" y="860"/>
                  <a:pt x="7" y="956"/>
                  <a:pt x="20" y="748"/>
                </a:cubicBezTo>
                <a:cubicBezTo>
                  <a:pt x="25" y="669"/>
                  <a:pt x="6" y="684"/>
                  <a:pt x="58" y="672"/>
                </a:cubicBezTo>
                <a:cubicBezTo>
                  <a:pt x="65" y="649"/>
                  <a:pt x="80" y="604"/>
                  <a:pt x="80" y="604"/>
                </a:cubicBezTo>
                <a:cubicBezTo>
                  <a:pt x="83" y="566"/>
                  <a:pt x="84" y="528"/>
                  <a:pt x="88" y="490"/>
                </a:cubicBezTo>
                <a:cubicBezTo>
                  <a:pt x="91" y="466"/>
                  <a:pt x="111" y="422"/>
                  <a:pt x="111" y="422"/>
                </a:cubicBezTo>
                <a:cubicBezTo>
                  <a:pt x="105" y="345"/>
                  <a:pt x="98" y="269"/>
                  <a:pt x="80" y="194"/>
                </a:cubicBezTo>
                <a:cubicBezTo>
                  <a:pt x="71" y="158"/>
                  <a:pt x="70" y="122"/>
                  <a:pt x="42" y="96"/>
                </a:cubicBezTo>
                <a:cubicBezTo>
                  <a:pt x="40" y="81"/>
                  <a:pt x="37" y="45"/>
                  <a:pt x="27" y="28"/>
                </a:cubicBezTo>
                <a:cubicBezTo>
                  <a:pt x="10" y="0"/>
                  <a:pt x="12" y="8"/>
                  <a:pt x="12" y="20"/>
                </a:cubicBezTo>
              </a:path>
            </a:pathLst>
          </a:custGeom>
          <a:noFill/>
          <a:ln w="2844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5"/>
          <p:cNvSpPr/>
          <p:nvPr/>
        </p:nvSpPr>
        <p:spPr>
          <a:xfrm flipH="1" flipV="1">
            <a:off x="6501960" y="3919320"/>
            <a:ext cx="917640" cy="1323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940720" y="522144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inhaço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-538200" y="0"/>
            <a:ext cx="172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927920" y="-1440"/>
            <a:ext cx="172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-1073160" y="0"/>
            <a:ext cx="10401480" cy="69264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490320" y="501336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nas Gerais State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"/>
          <p:cNvSpPr/>
          <p:nvPr/>
        </p:nvSpPr>
        <p:spPr>
          <a:xfrm>
            <a:off x="5854680" y="522360"/>
            <a:ext cx="611280" cy="3243240"/>
          </a:xfrm>
          <a:custGeom>
            <a:avLst/>
            <a:gdLst>
              <a:gd name="textAreaLeft" fmla="*/ 0 w 611280"/>
              <a:gd name="textAreaRight" fmla="*/ 611280 w 611280"/>
              <a:gd name="textAreaTop" fmla="*/ 0 h 3243240"/>
              <a:gd name="textAreaBottom" fmla="*/ 3243600 h 3243240"/>
            </a:gdLst>
            <a:ahLst/>
            <a:rect l="textAreaLeft" t="textAreaTop" r="textAreaRight" b="textAreaBottom"/>
            <a:pathLst>
              <a:path w="385" h="2043">
                <a:moveTo>
                  <a:pt x="200" y="2043"/>
                </a:moveTo>
                <a:cubicBezTo>
                  <a:pt x="180" y="1983"/>
                  <a:pt x="162" y="1984"/>
                  <a:pt x="117" y="1930"/>
                </a:cubicBezTo>
                <a:cubicBezTo>
                  <a:pt x="98" y="1876"/>
                  <a:pt x="114" y="1893"/>
                  <a:pt x="79" y="1869"/>
                </a:cubicBezTo>
                <a:cubicBezTo>
                  <a:pt x="56" y="1834"/>
                  <a:pt x="47" y="1802"/>
                  <a:pt x="33" y="1763"/>
                </a:cubicBezTo>
                <a:cubicBezTo>
                  <a:pt x="31" y="1725"/>
                  <a:pt x="31" y="1687"/>
                  <a:pt x="26" y="1649"/>
                </a:cubicBezTo>
                <a:cubicBezTo>
                  <a:pt x="24" y="1633"/>
                  <a:pt x="11" y="1604"/>
                  <a:pt x="11" y="1604"/>
                </a:cubicBezTo>
                <a:cubicBezTo>
                  <a:pt x="13" y="1530"/>
                  <a:pt x="0" y="1340"/>
                  <a:pt x="56" y="1255"/>
                </a:cubicBezTo>
                <a:cubicBezTo>
                  <a:pt x="78" y="1153"/>
                  <a:pt x="49" y="1267"/>
                  <a:pt x="79" y="1194"/>
                </a:cubicBezTo>
                <a:cubicBezTo>
                  <a:pt x="89" y="1169"/>
                  <a:pt x="81" y="1164"/>
                  <a:pt x="94" y="1141"/>
                </a:cubicBezTo>
                <a:cubicBezTo>
                  <a:pt x="130" y="1001"/>
                  <a:pt x="259" y="493"/>
                  <a:pt x="295" y="354"/>
                </a:cubicBezTo>
                <a:cubicBezTo>
                  <a:pt x="303" y="340"/>
                  <a:pt x="302" y="318"/>
                  <a:pt x="311" y="305"/>
                </a:cubicBezTo>
                <a:cubicBezTo>
                  <a:pt x="323" y="287"/>
                  <a:pt x="311" y="316"/>
                  <a:pt x="328" y="305"/>
                </a:cubicBezTo>
                <a:cubicBezTo>
                  <a:pt x="333" y="297"/>
                  <a:pt x="332" y="263"/>
                  <a:pt x="336" y="255"/>
                </a:cubicBezTo>
                <a:cubicBezTo>
                  <a:pt x="340" y="248"/>
                  <a:pt x="365" y="139"/>
                  <a:pt x="369" y="132"/>
                </a:cubicBezTo>
                <a:cubicBezTo>
                  <a:pt x="382" y="111"/>
                  <a:pt x="385" y="27"/>
                  <a:pt x="385" y="0"/>
                </a:cubicBezTo>
              </a:path>
            </a:pathLst>
          </a:custGeom>
          <a:noFill/>
          <a:ln w="2844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5334120" y="3581280"/>
            <a:ext cx="1600200" cy="1067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-169920" y="0"/>
            <a:ext cx="9469080" cy="6948000"/>
            <a:chOff x="-169920" y="0"/>
            <a:chExt cx="9469080" cy="6948000"/>
          </a:xfrm>
        </p:grpSpPr>
        <p:grpSp>
          <p:nvGrpSpPr>
            <p:cNvPr id="174" name="Group 3"/>
            <p:cNvGrpSpPr/>
            <p:nvPr/>
          </p:nvGrpSpPr>
          <p:grpSpPr>
            <a:xfrm>
              <a:off x="-169920" y="0"/>
              <a:ext cx="9469080" cy="6948000"/>
              <a:chOff x="-169920" y="0"/>
              <a:chExt cx="9469080" cy="6948000"/>
            </a:xfrm>
          </p:grpSpPr>
          <p:grpSp>
            <p:nvGrpSpPr>
              <p:cNvPr id="175" name="Group 4"/>
              <p:cNvGrpSpPr/>
              <p:nvPr/>
            </p:nvGrpSpPr>
            <p:grpSpPr>
              <a:xfrm>
                <a:off x="-115560" y="69840"/>
                <a:ext cx="9414720" cy="6878160"/>
                <a:chOff x="-115560" y="69840"/>
                <a:chExt cx="9414720" cy="6878160"/>
              </a:xfrm>
            </p:grpSpPr>
            <p:pic>
              <p:nvPicPr>
                <p:cNvPr id="176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-97560" y="447372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58560" y="447372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25840" y="446580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-115560" y="228528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174760" y="233928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Picture 1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403160" y="233784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Picture 1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706800" y="447372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Picture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724800" y="227880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Picture 1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4800" y="6984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Picture 1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-115560" y="9324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Picture 1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174760" y="12996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Picture 16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409640" y="13932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Rectangle 17"/>
                <p:cNvSpPr/>
                <p:nvPr/>
              </p:nvSpPr>
              <p:spPr>
                <a:xfrm>
                  <a:off x="-97560" y="6762600"/>
                  <a:ext cx="9396720" cy="1854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Rectangle 18"/>
              <p:cNvSpPr/>
              <p:nvPr/>
            </p:nvSpPr>
            <p:spPr>
              <a:xfrm>
                <a:off x="-169920" y="0"/>
                <a:ext cx="9398520" cy="185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Rectangle 19"/>
            <p:cNvSpPr/>
            <p:nvPr/>
          </p:nvSpPr>
          <p:spPr>
            <a:xfrm>
              <a:off x="4638960" y="2013120"/>
              <a:ext cx="481320" cy="311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3"/>
          <p:cNvGrpSpPr/>
          <p:nvPr/>
        </p:nvGrpSpPr>
        <p:grpSpPr>
          <a:xfrm>
            <a:off x="2514600" y="2590920"/>
            <a:ext cx="5234760" cy="3118680"/>
            <a:chOff x="2514600" y="2590920"/>
            <a:chExt cx="5234760" cy="3118680"/>
          </a:xfrm>
        </p:grpSpPr>
        <p:sp>
          <p:nvSpPr>
            <p:cNvPr id="193" name="Rectangle 4"/>
            <p:cNvSpPr/>
            <p:nvPr/>
          </p:nvSpPr>
          <p:spPr>
            <a:xfrm>
              <a:off x="2514600" y="2590920"/>
              <a:ext cx="1968840" cy="2555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5"/>
            <p:cNvSpPr/>
            <p:nvPr/>
          </p:nvSpPr>
          <p:spPr>
            <a:xfrm rot="1260000">
              <a:off x="4421880" y="4542120"/>
              <a:ext cx="3332520" cy="589680"/>
            </a:xfrm>
            <a:prstGeom prst="leftArrow">
              <a:avLst>
                <a:gd name="adj1" fmla="val 50000"/>
                <a:gd name="adj2" fmla="val 141285"/>
              </a:avLst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Vie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453960" y="274320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Pico do Itacolomi</a:t>
            </a:r>
            <a:br>
              <a:rPr sz="1400"/>
            </a:b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do Itambé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445400" y="198108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Serra do Lo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"/>
          <p:cNvSpPr/>
          <p:nvPr/>
        </p:nvSpPr>
        <p:spPr>
          <a:xfrm>
            <a:off x="1676520" y="3200400"/>
            <a:ext cx="2057400" cy="144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2209680" y="2286000"/>
            <a:ext cx="1600200" cy="53352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124080" y="2590920"/>
            <a:ext cx="2895840" cy="1523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8"/>
          <p:cNvSpPr/>
          <p:nvPr/>
        </p:nvSpPr>
        <p:spPr>
          <a:xfrm>
            <a:off x="4800600" y="3886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203" name="Line 3"/>
          <p:cNvSpPr/>
          <p:nvPr/>
        </p:nvSpPr>
        <p:spPr>
          <a:xfrm>
            <a:off x="2209680" y="160020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733760" y="107784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Pico do Itacolomi</a:t>
            </a:r>
            <a:br>
              <a:rPr sz="1400"/>
            </a:b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do Itamb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188600" y="30492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Serra do Lo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6"/>
          <p:cNvSpPr/>
          <p:nvPr/>
        </p:nvSpPr>
        <p:spPr>
          <a:xfrm flipH="1">
            <a:off x="3795480" y="609480"/>
            <a:ext cx="9428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7"/>
          <p:cNvSpPr/>
          <p:nvPr/>
        </p:nvSpPr>
        <p:spPr>
          <a:xfrm>
            <a:off x="3213000" y="2717640"/>
            <a:ext cx="1569960" cy="184788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847880"/>
              <a:gd name="textAreaBottom" fmla="*/ 1848240 h 1847880"/>
            </a:gdLst>
            <a:ahLst/>
            <a:rect l="textAreaLeft" t="textAreaTop" r="textAreaRight" b="textAreaBottom"/>
            <a:pathLst>
              <a:path w="989" h="1164">
                <a:moveTo>
                  <a:pt x="140" y="0"/>
                </a:moveTo>
                <a:cubicBezTo>
                  <a:pt x="168" y="26"/>
                  <a:pt x="176" y="10"/>
                  <a:pt x="189" y="49"/>
                </a:cubicBezTo>
                <a:cubicBezTo>
                  <a:pt x="186" y="174"/>
                  <a:pt x="267" y="434"/>
                  <a:pt x="91" y="477"/>
                </a:cubicBezTo>
                <a:cubicBezTo>
                  <a:pt x="72" y="495"/>
                  <a:pt x="52" y="508"/>
                  <a:pt x="33" y="526"/>
                </a:cubicBezTo>
                <a:cubicBezTo>
                  <a:pt x="22" y="562"/>
                  <a:pt x="9" y="597"/>
                  <a:pt x="0" y="633"/>
                </a:cubicBezTo>
                <a:cubicBezTo>
                  <a:pt x="3" y="659"/>
                  <a:pt x="7" y="788"/>
                  <a:pt x="25" y="806"/>
                </a:cubicBezTo>
                <a:cubicBezTo>
                  <a:pt x="31" y="812"/>
                  <a:pt x="42" y="811"/>
                  <a:pt x="50" y="814"/>
                </a:cubicBezTo>
                <a:cubicBezTo>
                  <a:pt x="59" y="824"/>
                  <a:pt x="110" y="885"/>
                  <a:pt x="115" y="888"/>
                </a:cubicBezTo>
                <a:cubicBezTo>
                  <a:pt x="140" y="905"/>
                  <a:pt x="166" y="961"/>
                  <a:pt x="198" y="971"/>
                </a:cubicBezTo>
                <a:cubicBezTo>
                  <a:pt x="235" y="994"/>
                  <a:pt x="293" y="1013"/>
                  <a:pt x="354" y="1028"/>
                </a:cubicBezTo>
                <a:cubicBezTo>
                  <a:pt x="399" y="1033"/>
                  <a:pt x="440" y="1003"/>
                  <a:pt x="469" y="1003"/>
                </a:cubicBezTo>
                <a:cubicBezTo>
                  <a:pt x="498" y="1003"/>
                  <a:pt x="494" y="1014"/>
                  <a:pt x="527" y="1028"/>
                </a:cubicBezTo>
                <a:cubicBezTo>
                  <a:pt x="598" y="1053"/>
                  <a:pt x="623" y="1079"/>
                  <a:pt x="667" y="1086"/>
                </a:cubicBezTo>
                <a:cubicBezTo>
                  <a:pt x="713" y="1109"/>
                  <a:pt x="765" y="1101"/>
                  <a:pt x="790" y="1102"/>
                </a:cubicBezTo>
                <a:cubicBezTo>
                  <a:pt x="822" y="1152"/>
                  <a:pt x="863" y="1134"/>
                  <a:pt x="922" y="1143"/>
                </a:cubicBezTo>
                <a:cubicBezTo>
                  <a:pt x="989" y="1164"/>
                  <a:pt x="944" y="1116"/>
                  <a:pt x="988" y="116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8"/>
          <p:cNvSpPr/>
          <p:nvPr/>
        </p:nvSpPr>
        <p:spPr>
          <a:xfrm>
            <a:off x="3809880" y="46483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"/>
          <p:cNvSpPr/>
          <p:nvPr/>
        </p:nvSpPr>
        <p:spPr>
          <a:xfrm flipV="1">
            <a:off x="1763640" y="4842000"/>
            <a:ext cx="7201080" cy="201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 rot="20760000">
            <a:off x="5163480" y="5909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9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6153120" y="692280"/>
            <a:ext cx="2987640" cy="381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 rot="3240000">
            <a:off x="7451280" y="22701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9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1692360" y="684864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Line 3"/>
          <p:cNvSpPr/>
          <p:nvPr/>
        </p:nvSpPr>
        <p:spPr>
          <a:xfrm>
            <a:off x="914400" y="8380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1066680" y="990720"/>
            <a:ext cx="1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4876920" y="12952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"/>
          <p:cNvSpPr/>
          <p:nvPr/>
        </p:nvSpPr>
        <p:spPr>
          <a:xfrm>
            <a:off x="5029200" y="10666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6553080" y="12952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8"/>
          <p:cNvSpPr/>
          <p:nvPr/>
        </p:nvSpPr>
        <p:spPr>
          <a:xfrm>
            <a:off x="6781680" y="10666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748080" y="2700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6705720" y="1447920"/>
            <a:ext cx="14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4345200" y="5335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6326640" y="5335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3"/>
          <p:cNvSpPr/>
          <p:nvPr/>
        </p:nvSpPr>
        <p:spPr>
          <a:xfrm>
            <a:off x="1085760" y="2743200"/>
            <a:ext cx="2967120" cy="1406520"/>
          </a:xfrm>
          <a:custGeom>
            <a:avLst/>
            <a:gdLst>
              <a:gd name="textAreaLeft" fmla="*/ 0 w 2967120"/>
              <a:gd name="textAreaRight" fmla="*/ 2967480 w 2967120"/>
              <a:gd name="textAreaTop" fmla="*/ 0 h 1406520"/>
              <a:gd name="textAreaBottom" fmla="*/ 1406520 h 1406520"/>
            </a:gdLst>
            <a:ahLst/>
            <a:rect l="textAreaLeft" t="textAreaTop" r="textAreaRight" b="textAreaBottom"/>
            <a:pathLst>
              <a:path w="1869" h="886">
                <a:moveTo>
                  <a:pt x="1345" y="0"/>
                </a:moveTo>
                <a:cubicBezTo>
                  <a:pt x="1389" y="3"/>
                  <a:pt x="1434" y="2"/>
                  <a:pt x="1478" y="9"/>
                </a:cubicBezTo>
                <a:cubicBezTo>
                  <a:pt x="1489" y="11"/>
                  <a:pt x="1497" y="19"/>
                  <a:pt x="1505" y="27"/>
                </a:cubicBezTo>
                <a:cubicBezTo>
                  <a:pt x="1513" y="34"/>
                  <a:pt x="1513" y="50"/>
                  <a:pt x="1523" y="53"/>
                </a:cubicBezTo>
                <a:cubicBezTo>
                  <a:pt x="1563" y="63"/>
                  <a:pt x="1606" y="59"/>
                  <a:pt x="1647" y="62"/>
                </a:cubicBezTo>
                <a:cubicBezTo>
                  <a:pt x="1693" y="78"/>
                  <a:pt x="1665" y="66"/>
                  <a:pt x="1726" y="106"/>
                </a:cubicBezTo>
                <a:cubicBezTo>
                  <a:pt x="1734" y="111"/>
                  <a:pt x="1783" y="122"/>
                  <a:pt x="1788" y="124"/>
                </a:cubicBezTo>
                <a:cubicBezTo>
                  <a:pt x="1806" y="130"/>
                  <a:pt x="1824" y="136"/>
                  <a:pt x="1842" y="142"/>
                </a:cubicBezTo>
                <a:cubicBezTo>
                  <a:pt x="1851" y="145"/>
                  <a:pt x="1868" y="151"/>
                  <a:pt x="1868" y="151"/>
                </a:cubicBezTo>
                <a:cubicBezTo>
                  <a:pt x="1860" y="266"/>
                  <a:pt x="1869" y="255"/>
                  <a:pt x="1833" y="328"/>
                </a:cubicBezTo>
                <a:cubicBezTo>
                  <a:pt x="1829" y="336"/>
                  <a:pt x="1831" y="349"/>
                  <a:pt x="1824" y="354"/>
                </a:cubicBezTo>
                <a:cubicBezTo>
                  <a:pt x="1799" y="372"/>
                  <a:pt x="1736" y="377"/>
                  <a:pt x="1709" y="381"/>
                </a:cubicBezTo>
                <a:cubicBezTo>
                  <a:pt x="1661" y="397"/>
                  <a:pt x="1616" y="421"/>
                  <a:pt x="1567" y="434"/>
                </a:cubicBezTo>
                <a:cubicBezTo>
                  <a:pt x="1522" y="464"/>
                  <a:pt x="1501" y="463"/>
                  <a:pt x="1443" y="470"/>
                </a:cubicBezTo>
                <a:cubicBezTo>
                  <a:pt x="1319" y="510"/>
                  <a:pt x="1409" y="486"/>
                  <a:pt x="1168" y="496"/>
                </a:cubicBezTo>
                <a:cubicBezTo>
                  <a:pt x="1107" y="512"/>
                  <a:pt x="1035" y="544"/>
                  <a:pt x="973" y="549"/>
                </a:cubicBezTo>
                <a:cubicBezTo>
                  <a:pt x="880" y="556"/>
                  <a:pt x="558" y="565"/>
                  <a:pt x="495" y="567"/>
                </a:cubicBezTo>
                <a:cubicBezTo>
                  <a:pt x="396" y="592"/>
                  <a:pt x="547" y="555"/>
                  <a:pt x="388" y="585"/>
                </a:cubicBezTo>
                <a:cubicBezTo>
                  <a:pt x="319" y="598"/>
                  <a:pt x="255" y="620"/>
                  <a:pt x="184" y="629"/>
                </a:cubicBezTo>
                <a:cubicBezTo>
                  <a:pt x="137" y="645"/>
                  <a:pt x="98" y="666"/>
                  <a:pt x="52" y="682"/>
                </a:cubicBezTo>
                <a:cubicBezTo>
                  <a:pt x="49" y="691"/>
                  <a:pt x="44" y="700"/>
                  <a:pt x="43" y="709"/>
                </a:cubicBezTo>
                <a:cubicBezTo>
                  <a:pt x="38" y="741"/>
                  <a:pt x="44" y="775"/>
                  <a:pt x="34" y="806"/>
                </a:cubicBezTo>
                <a:cubicBezTo>
                  <a:pt x="31" y="816"/>
                  <a:pt x="10" y="814"/>
                  <a:pt x="7" y="824"/>
                </a:cubicBezTo>
                <a:cubicBezTo>
                  <a:pt x="0" y="844"/>
                  <a:pt x="7" y="865"/>
                  <a:pt x="7" y="88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4"/>
          <p:cNvSpPr/>
          <p:nvPr/>
        </p:nvSpPr>
        <p:spPr>
          <a:xfrm flipH="1">
            <a:off x="671400" y="5445000"/>
            <a:ext cx="819360" cy="1208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284040" y="64245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6"/>
          <p:cNvSpPr/>
          <p:nvPr/>
        </p:nvSpPr>
        <p:spPr>
          <a:xfrm>
            <a:off x="1084320" y="4167360"/>
            <a:ext cx="1908000" cy="448920"/>
          </a:xfrm>
          <a:custGeom>
            <a:avLst/>
            <a:gdLst>
              <a:gd name="textAreaLeft" fmla="*/ 0 w 1908000"/>
              <a:gd name="textAreaRight" fmla="*/ 1908360 w 1908000"/>
              <a:gd name="textAreaTop" fmla="*/ 0 h 448920"/>
              <a:gd name="textAreaBottom" fmla="*/ 449280 h 448920"/>
            </a:gdLst>
            <a:ahLst/>
            <a:rect l="textAreaLeft" t="textAreaTop" r="textAreaRight" b="textAreaBottom"/>
            <a:pathLst>
              <a:path w="1202" h="283">
                <a:moveTo>
                  <a:pt x="0" y="0"/>
                </a:moveTo>
                <a:cubicBezTo>
                  <a:pt x="96" y="10"/>
                  <a:pt x="172" y="27"/>
                  <a:pt x="272" y="33"/>
                </a:cubicBezTo>
                <a:cubicBezTo>
                  <a:pt x="398" y="75"/>
                  <a:pt x="535" y="71"/>
                  <a:pt x="666" y="82"/>
                </a:cubicBezTo>
                <a:cubicBezTo>
                  <a:pt x="772" y="108"/>
                  <a:pt x="603" y="69"/>
                  <a:pt x="872" y="99"/>
                </a:cubicBezTo>
                <a:cubicBezTo>
                  <a:pt x="911" y="103"/>
                  <a:pt x="948" y="118"/>
                  <a:pt x="987" y="123"/>
                </a:cubicBezTo>
                <a:cubicBezTo>
                  <a:pt x="1004" y="129"/>
                  <a:pt x="1024" y="128"/>
                  <a:pt x="1037" y="140"/>
                </a:cubicBezTo>
                <a:cubicBezTo>
                  <a:pt x="1043" y="146"/>
                  <a:pt x="1039" y="158"/>
                  <a:pt x="1045" y="164"/>
                </a:cubicBezTo>
                <a:cubicBezTo>
                  <a:pt x="1065" y="184"/>
                  <a:pt x="1099" y="177"/>
                  <a:pt x="1127" y="181"/>
                </a:cubicBezTo>
                <a:cubicBezTo>
                  <a:pt x="1147" y="238"/>
                  <a:pt x="1128" y="224"/>
                  <a:pt x="1168" y="239"/>
                </a:cubicBezTo>
                <a:cubicBezTo>
                  <a:pt x="1174" y="244"/>
                  <a:pt x="1181" y="248"/>
                  <a:pt x="1185" y="255"/>
                </a:cubicBezTo>
                <a:cubicBezTo>
                  <a:pt x="1202" y="283"/>
                  <a:pt x="1182" y="280"/>
                  <a:pt x="1201" y="28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7"/>
          <p:cNvSpPr/>
          <p:nvPr/>
        </p:nvSpPr>
        <p:spPr>
          <a:xfrm flipH="1">
            <a:off x="1357200" y="1523880"/>
            <a:ext cx="40968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1729440" y="1077840"/>
            <a:ext cx="22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Pico do Itacolomi do Itamb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9"/>
          <p:cNvSpPr/>
          <p:nvPr/>
        </p:nvSpPr>
        <p:spPr>
          <a:xfrm flipH="1">
            <a:off x="7088040" y="1817640"/>
            <a:ext cx="40968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7464240" y="137160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Serra do Lo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cp:keywords/>
  <dc:language>en-US</dc:language>
  <cp:lastModifiedBy>tiago</cp:lastModifiedBy>
  <cp:lastPrinted>2012-10-26T17:22:49Z</cp:lastPrinted>
  <dcterms:modified xsi:type="dcterms:W3CDTF">2014-08-02T15:58:44Z</dcterms:modified>
  <cp:revision>390</cp:revision>
  <dc:subject/>
  <dc:title>Low-carbon growth in Brazil?</dc:title>
</cp:coreProperties>
</file>